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6600" y="912960"/>
            <a:ext cx="28872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Great War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914–1918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2097000"/>
            <a:ext cx="645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factors lead to World War I, a conflict that devastates Europe and has a major impact on the worl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74440" y="159876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Bloody Stale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73360" y="2174760"/>
            <a:ext cx="5445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nflict Grinds A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estern Fr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heavy battle zone in north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chlieffen P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erman plan to defeat Fran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n fight 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 army quickly advances to outskirt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d to retreat at First Battle of the Mar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lieffen Plan fails; Germany has to fight tw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nt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2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79480" y="1690560"/>
            <a:ext cx="29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Bloody Stalem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73360" y="2174760"/>
            <a:ext cx="5800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r in the Tre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lict descends into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ench warf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rm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hting from tre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tles result in many deaths, small land g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 in trenches is miserable, difficult, unsanit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weapons only lead to more 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sive losses for both sides at 1916 battl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dun and Som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4800" y="2174760"/>
            <a:ext cx="5894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y F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astern Fr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ite of main fighting along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-Russian b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ns push into Austria and Germany, but so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d to ret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72280" y="15937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Battle on the Eastern 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74800" y="3656160"/>
            <a:ext cx="5654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ssia Strug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’s war effort suffering by 1916; 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ies, few supp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ge size of Russian army keeps it a formid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s Germany from sending more troop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Western Fro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371600" y="2486160"/>
            <a:ext cx="4975200" cy="1057680"/>
            <a:chOff x="1371600" y="2486160"/>
            <a:chExt cx="4975200" cy="1057680"/>
          </a:xfrm>
        </p:grpSpPr>
        <p:sp>
          <p:nvSpPr>
            <p:cNvPr id="152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867040"/>
              <a:ext cx="497520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 Global Conflict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370160" y="3514680"/>
            <a:ext cx="67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ld War I spreads to several continents and requires the full resources of many govern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2640" y="182736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ar Affects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3360" y="2403360"/>
            <a:ext cx="5788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allipoli Campa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es move to capture Ottoman Dardanelles strait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19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pe to defeat Ottoman Empire, a Central Pow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want to open a supply line through regio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ends in costly Allied def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6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2320" y="885960"/>
            <a:ext cx="337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A Global Conflic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3360" y="4719600"/>
            <a:ext cx="6375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les in Africa and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es take control of German holdings in Asia,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and France use their colonial subjects to help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 ef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3360" y="2174760"/>
            <a:ext cx="5445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erica Joins the F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 seeks to control Atlantic Ocean to s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ies to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unrestricted submarine warf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ps near Britain sunk without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lts policy in 1915, after sinking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sita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gers U.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news unrestricted policy in 1917, hope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ve Britain quick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newal of policy and effort to enlist Mex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ger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declares war against Germany in April 1917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oining All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7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780560" y="1690560"/>
            <a:ext cx="31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War Affects the Wor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3360" y="159876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ar Affects the Home 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vernments Wage Total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 War I becom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otal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ations devo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resources to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s take control of economy to produ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s turn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at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imiting purchas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-related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ropagan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one-sided information to bui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ale, support for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440" y="478152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men and the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home, thousands of women fill jobs previous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ld by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women also experience the war by working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ur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8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0840" y="159876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Allies Win the W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ssia Withdr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vil unrest in Russia forces czar to step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throne in 19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ts soon take control of Russia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 signs treaty with Germany in March 1918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lls ou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9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73360" y="42480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entral Powers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Russia gone, Germany moves most forc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ern 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age in major fighting; Allies force German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ies win war;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rmis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end of fighting—sign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 19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3360" y="159876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the W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takes heavy toll: 8.5 million soldiers dead, 2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lion wo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devastates European economies, dr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treasu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acres of land and homes, villages, tow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rvivors suffer disillusionment and despai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the ar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369440" y="2486160"/>
            <a:ext cx="4662720" cy="1057680"/>
            <a:chOff x="1369440" y="2486160"/>
            <a:chExt cx="4662720" cy="1057680"/>
          </a:xfrm>
        </p:grpSpPr>
        <p:sp>
          <p:nvSpPr>
            <p:cNvPr id="20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69440" y="2867040"/>
              <a:ext cx="466272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 Flawed Peac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winning the war, the Allies dictate a harsh peace settlement that leaves many nations feeling betra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6600" y="912960"/>
            <a:ext cx="28872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Great War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914–1918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4800" y="250200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ching Toward W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5880" y="307800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 Plunges into W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8400" y="359100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Global Confli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8400" y="4129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lawed Pe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Leaders Come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of leaders known as the Big Four domin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ce tal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presid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oodrow Wil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nch rule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eorges Clemenc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 Lloyd George of Great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ttorio Orlando of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3360" y="15937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Allies Meet and Deb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8720" y="88596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A Flawed Pea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4800" y="2174760"/>
            <a:ext cx="5465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son’s Plan for Pe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lson propos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ourteen 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outline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ting world pe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for free trade and end to secret allianc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build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t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elf-deter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ight of peopl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 own 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visions international peace-keeping body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 world disp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780920" y="1690560"/>
            <a:ext cx="36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Allies Meet and Deb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ersailles Trea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, France oppose Wilson’s ideas; wan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nish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es, Germany sign accord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eaty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Versai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in June 1919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eague of N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inter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 to keep pe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ames Germans for war, forces Germany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y damages to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gue to rule German colonies until deem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ady for indepen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80920" y="1690560"/>
            <a:ext cx="36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Allies Meet and Deb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74800" y="2174760"/>
            <a:ext cx="5465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reation of New 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sailles treaty, other peace accords chang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ok of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ia-Hungary, Bulgaria, Ottoman Empire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e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er Ottoman lands in Southwest Asia tu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o man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countries created in southeastern Europ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gives up 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4080" y="15937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Troubled Trea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74800" y="2174760"/>
            <a:ext cx="54658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eace Built on Quicks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y of Versailles creates feelings of bitter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both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 people feel bitter and betrayed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ing blame for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 never signs Treaty of Versa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Americans oppose League of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nvolvement with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former colonies express anger ove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ning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pan, Italy criticize agreement; gain less l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they w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79120" y="169056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Troubled Trea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880" y="2486160"/>
            <a:ext cx="6310080" cy="1057680"/>
            <a:chOff x="1370880" y="2486160"/>
            <a:chExt cx="6310080" cy="105768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880" y="2867040"/>
              <a:ext cx="63100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Marching Toward War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5560" y="3598920"/>
            <a:ext cx="56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Europe, military buildup, nationalist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elings, and rival alliances set the s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 continental w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1920" y="182736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ising Tensions in Eu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1240" y="941400"/>
            <a:ext cx="4263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Marching Toward W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667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se of Nation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 enjoys peace in late 1800s but problems l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ow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wing nationalism leads to competition am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ism in the Balkans leads many group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and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3360" y="44514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erialism and Milita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etition for colonies stirs mistrust am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tual animosity spurs European countrie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age in arms 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Militar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policy of glorifying military pow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ing ar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159876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angled Alli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773360" y="2174760"/>
            <a:ext cx="5646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smarck Forges Early 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’s Otto von Bismarck works to keep pe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urope after 18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ves France wants revenge for loss in 187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o-Prussian 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ks to isolate the French with a series of trea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allia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s treaty with Russia in 18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riple All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Germany, Austri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ngary, Italy—in 188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1880" y="616104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4800" y="2174760"/>
            <a:ext cx="5465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ifting Alliances Threaten Pe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Kaiser Wilhelm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omes German ruler in 18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ign policy changes begin in 1890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missal of Bismar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ance with Russia dropped; Russia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es with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to strengthen German navy, which al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, France, Russia form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riple Ente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iance in 19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8760" y="1690560"/>
            <a:ext cx="27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angled Allia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1598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risis in the Balk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73360" y="217476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Restless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groups in Balkans win independence 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19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nation of Serbia made up largely of Sla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ia-Hungary annexes Slavic region Bos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Herzegovina (19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bia outraged, sees itself as rightful ruler of th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avic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3360" y="44798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ot Rings Throughout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bian rebel kills Austro-Hungarian royal official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stria declares war on Serbia; Russia comes to 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Serb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0160" y="3940200"/>
            <a:ext cx="67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European nation after another is drawn into a large and industrialized war that results in many casual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70160" y="2397240"/>
            <a:ext cx="6800400" cy="1581480"/>
            <a:chOff x="1370160" y="2397240"/>
            <a:chExt cx="6800400" cy="1581480"/>
          </a:xfrm>
        </p:grpSpPr>
        <p:sp>
          <p:nvSpPr>
            <p:cNvPr id="108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0160" y="2787480"/>
              <a:ext cx="68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Europe Plunges into War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73360" y="182736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Great War Beg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1240" y="941400"/>
            <a:ext cx="4815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Europe Plunges into W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73360" y="2403360"/>
            <a:ext cx="5864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ies on the 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ia moves troops to its borders with Austri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 declares war on Russia, quickly attac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Britain declares war on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1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73360" y="4176720"/>
            <a:ext cx="5810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s Take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mid-August 1914, two sides at war through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entral Pow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ermany, Austria-Hungary (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n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ll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Britain, France, Russia (and other nat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4:11:36Z</dcterms:modified>
  <cp:revision>863</cp:revision>
  <dc:subject/>
  <dc:title>No Slide Title</dc:title>
</cp:coreProperties>
</file>